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B46-F11B-4FA5-A52E-E87A94AE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79D-FBF1-4F77-8A65-161658DC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FE5-4EDE-4581-B1E2-53738665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3ED-5122-4C7B-9347-655349CC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2A6-FD8F-4519-B65A-22026A6A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621-D3ED-43E9-840C-4A30A41A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4B8-FD68-4332-A104-4BC0C286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11C-3DB3-47D6-B865-1A24C0A2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C17-FB01-4BD3-9F29-7E6B1422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4B3-5F76-4E07-8340-F977A11A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C87-5F86-4596-AF08-1173BC8E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1A9-24FF-408D-8D0E-605C8D6B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A17F-3644-41A1-8974-BB02662DB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hyperlink" Target="http://www.freehearingtest.com/test.shtml" TargetMode="External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P Psych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Sensation and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ction 5Q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797120" y="58680"/>
          <a:ext cx="7315200" cy="650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7120" y="58680"/>
                    <a:ext cx="7315200" cy="65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2362320"/>
            <a:ext cx="830592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ignal Detection Theor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udies the link between motivation, sensitivity and decision-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erson’s ability to detect a stimulus also depends on an individual’s motivation (must be “attuned” to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buy a new car and suddenly become aware of many cars like y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ing you see someone you know (Bacon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2133720"/>
            <a:ext cx="868680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2b2b2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2b2b2"/>
                </a:solidFill>
                <a:uFillTx/>
                <a:latin typeface="Times New Roman"/>
              </a:rPr>
              <a:t>Sens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pattern of electrical activity in the brain when receptors are stim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by colors, forms, sounds, smells and ta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2b2b2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2b2b2"/>
                </a:solidFill>
                <a:uFillTx/>
                <a:latin typeface="Times New Roman"/>
              </a:rPr>
              <a:t>Percep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organization of sensory information into meaningful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of sensory activities (breakfast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2b2b2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2b2b2"/>
                </a:solidFill>
                <a:uFillTx/>
                <a:latin typeface="Times New Roman"/>
              </a:rPr>
              <a:t>Psychophysic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study of the relationships between sensation and physical stimuli (measured using size, duration, intensity, or wavelength – light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7696080" cy="6832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 rot="5400000">
            <a:off x="5271480" y="303372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Perception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2133720"/>
            <a:ext cx="822960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2b2b2"/>
                </a:solidFill>
                <a:uFillTx/>
                <a:latin typeface="Times New Roman"/>
              </a:rPr>
              <a:t>Absolute Threshold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amount of physical energy needed to produce sensation (music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sound exam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threshold is the stimulus level that produces a response 50% of the time (from both “direction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880" y="2057400"/>
            <a:ext cx="5189760" cy="4372560"/>
            <a:chOff x="2880" y="2057400"/>
            <a:chExt cx="5189760" cy="4372560"/>
          </a:xfrm>
        </p:grpSpPr>
        <p:sp>
          <p:nvSpPr>
            <p:cNvPr id="103" name=""/>
            <p:cNvSpPr/>
            <p:nvPr/>
          </p:nvSpPr>
          <p:spPr>
            <a:xfrm>
              <a:off x="1556280" y="517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29200" y="4443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29200" y="3646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29200" y="2844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04640" y="20588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58680" y="53643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6080" y="536436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sol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sho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7920" y="53643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52920" y="6061680"/>
              <a:ext cx="24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nsity of stimul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80" y="2407680"/>
              <a:ext cx="1410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te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51880" y="6278760"/>
              <a:ext cx="96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53280" y="3804120"/>
              <a:ext cx="148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558600" y="4083120"/>
              <a:ext cx="1473480" cy="666720"/>
              <a:chOff x="3558600" y="4083120"/>
              <a:chExt cx="1473480" cy="666720"/>
            </a:xfrm>
          </p:grpSpPr>
          <p:sp>
            <p:nvSpPr>
              <p:cNvPr id="116" name=""/>
              <p:cNvSpPr/>
              <p:nvPr/>
            </p:nvSpPr>
            <p:spPr>
              <a:xfrm>
                <a:off x="3558600" y="4095360"/>
                <a:ext cx="1408680" cy="6544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29160" y="4083120"/>
                <a:ext cx="1402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ubliminal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timul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rot="16192200">
              <a:off x="2088360" y="4084200"/>
              <a:ext cx="1528200" cy="9637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36120" y="3804120"/>
              <a:ext cx="0" cy="1528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113280" y="4313520"/>
              <a:ext cx="444600" cy="50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63520" y="5114160"/>
              <a:ext cx="518400" cy="254520"/>
            </a:xfrm>
            <a:custGeom>
              <a:avLst/>
              <a:gdLst/>
              <a:ahLst/>
              <a:rect l="l" t="t" r="r" b="b"/>
              <a:pathLst>
                <a:path w="336" h="168">
                  <a:moveTo>
                    <a:pt x="8" y="144"/>
                  </a:moveTo>
                  <a:cubicBezTo>
                    <a:pt x="16" y="120"/>
                    <a:pt x="256" y="0"/>
                    <a:pt x="296" y="0"/>
                  </a:cubicBezTo>
                  <a:cubicBezTo>
                    <a:pt x="336" y="0"/>
                    <a:pt x="304" y="120"/>
                    <a:pt x="248" y="144"/>
                  </a:cubicBezTo>
                  <a:cubicBezTo>
                    <a:pt x="192" y="168"/>
                    <a:pt x="0" y="168"/>
                    <a:pt x="8" y="144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53280" y="2130120"/>
              <a:ext cx="3261960" cy="3202200"/>
            </a:xfrm>
            <a:custGeom>
              <a:avLst/>
              <a:gdLst/>
              <a:ahLst/>
              <a:rect l="l" t="t" r="r" b="b"/>
              <a:pathLst>
                <a:path w="2112" h="2120">
                  <a:moveTo>
                    <a:pt x="0" y="2112"/>
                  </a:moveTo>
                  <a:cubicBezTo>
                    <a:pt x="71" y="2116"/>
                    <a:pt x="143" y="2120"/>
                    <a:pt x="240" y="2064"/>
                  </a:cubicBezTo>
                  <a:cubicBezTo>
                    <a:pt x="336" y="2007"/>
                    <a:pt x="463" y="1928"/>
                    <a:pt x="576" y="1776"/>
                  </a:cubicBezTo>
                  <a:cubicBezTo>
                    <a:pt x="688" y="1623"/>
                    <a:pt x="832" y="1295"/>
                    <a:pt x="912" y="1152"/>
                  </a:cubicBezTo>
                  <a:cubicBezTo>
                    <a:pt x="991" y="1008"/>
                    <a:pt x="960" y="1032"/>
                    <a:pt x="1056" y="912"/>
                  </a:cubicBezTo>
                  <a:cubicBezTo>
                    <a:pt x="1152" y="792"/>
                    <a:pt x="1312" y="584"/>
                    <a:pt x="1488" y="432"/>
                  </a:cubicBezTo>
                  <a:cubicBezTo>
                    <a:pt x="1664" y="280"/>
                    <a:pt x="1888" y="140"/>
                    <a:pt x="2112" y="0"/>
                  </a:cubicBezTo>
                </a:path>
              </a:pathLst>
            </a:custGeom>
            <a:noFill/>
            <a:ln w="7632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53280" y="2057400"/>
              <a:ext cx="3261960" cy="3275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105520" y="182880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ubliminal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i below one’s absolute threshold for conscious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timuli may still be processed without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subliminal tapes have no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952640"/>
            <a:ext cx="868680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2b2b2"/>
                </a:solidFill>
                <a:uFillTx/>
                <a:latin typeface="Times New Roman"/>
              </a:rPr>
              <a:t>Weber’s Law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larger a stimulus the greater the change needed to notice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uble sweetness of lemonade, three times the amount of sugar 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 of electric sh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reases eight times by doubling the vol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ty of 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increased many times to double brigh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carry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2127240"/>
            <a:ext cx="845820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2b2b2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2b2b2"/>
                </a:solidFill>
                <a:uFillTx/>
                <a:latin typeface="Times New Roman"/>
              </a:rPr>
              <a:t>Sensory Adap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nses adapt to constant stimulation, responding only to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 not notice constant pressure/friction of clothes on your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s adjusting in a darkened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n responding to col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 smell disappears after a period 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cils behind the ea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11959" r="45916" b="16300"/>
          <a:stretch/>
        </p:blipFill>
        <p:spPr>
          <a:xfrm>
            <a:off x="0" y="228600"/>
            <a:ext cx="8381880" cy="6432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5400000">
            <a:off x="5462280" y="3148200"/>
            <a:ext cx="632448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Afterimage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2:43:30Z</dcterms:created>
  <dc:creator>Authorized User</dc:creator>
  <dc:description/>
  <dc:language>en-US</dc:language>
  <cp:lastModifiedBy>Authorized User</cp:lastModifiedBy>
  <dcterms:modified xsi:type="dcterms:W3CDTF">2007-01-11T12:43:51Z</dcterms:modified>
  <cp:revision>1</cp:revision>
  <dc:subject/>
  <dc:title> CP Psychology</dc:title>
</cp:coreProperties>
</file>